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A7F2-464C-483F-AD27-FC245034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7DA-4231-4012-8F66-1AB26287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B0F-B32F-4266-AFA7-5834E403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605D-FC59-42FB-8DCB-C043C632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FD76-F6D0-4CCE-9163-E24A3D62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B3FB-54A6-4237-B33D-0157E0A9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A572-B383-472C-9002-C6B2C373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B948-F1E6-44FB-8D87-9B929D2A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D051-09EF-40BF-A39A-C9D7516D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93A6-341F-4E0A-A507-F5213838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4823-37D9-4D8B-944A-5F481652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A187-C062-4C27-BED2-BFCFE034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FEAD-A90A-4CE3-B183-A52CF84D84EF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slide11.xml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" Target="slide13.xml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" Target="slide14.xml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458200" cy="38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ПОСТРОЕНИЕ ДИАГРАММ В ЭЛЕКТРОННЫХ ТАБЛИЦАХ </a:t>
            </a: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MS EXCEL</a:t>
            </a:r>
            <a:br>
              <a:rPr sz="4400"/>
            </a:b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pic>
        <p:nvPicPr>
          <p:cNvPr id="42" name="Picture 7" descr="instalacion-ordenador-nuevo_ordenador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979640" y="2857680"/>
            <a:ext cx="50673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2"/>
          <p:cNvGraphicFramePr/>
          <p:nvPr/>
        </p:nvGraphicFramePr>
        <p:xfrm>
          <a:off x="152280" y="1219320"/>
          <a:ext cx="36576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19320"/>
                    <a:ext cx="36576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ТИП ДИАГРАММЫ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Line 4"/>
          <p:cNvSpPr/>
          <p:nvPr/>
        </p:nvSpPr>
        <p:spPr>
          <a:xfrm>
            <a:off x="3962520" y="533520"/>
            <a:ext cx="0" cy="632448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0" y="609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00cc"/>
                </a:solidFill>
                <a:uFillTx/>
                <a:latin typeface="Times New Roman"/>
              </a:rPr>
              <a:t>Плоска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Line 6"/>
          <p:cNvSpPr/>
          <p:nvPr/>
        </p:nvSpPr>
        <p:spPr>
          <a:xfrm>
            <a:off x="4572000" y="533520"/>
            <a:ext cx="0" cy="632448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041720" y="1447920"/>
            <a:ext cx="5461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Times New Roman"/>
              </a:rPr>
              <a:t>График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105520" y="609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00cc"/>
                </a:solidFill>
                <a:uFillTx/>
                <a:latin typeface="Times New Roman"/>
              </a:rPr>
              <a:t>Объемна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97" name="Object 9"/>
          <p:cNvGraphicFramePr/>
          <p:nvPr/>
        </p:nvGraphicFramePr>
        <p:xfrm>
          <a:off x="4800600" y="1066680"/>
          <a:ext cx="3962520" cy="23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066680"/>
                    <a:ext cx="39625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0"/>
          <p:cNvGraphicFramePr/>
          <p:nvPr/>
        </p:nvGraphicFramePr>
        <p:xfrm>
          <a:off x="152280" y="3886200"/>
          <a:ext cx="3657600" cy="244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3886200"/>
                    <a:ext cx="365760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11"/>
          <p:cNvSpPr/>
          <p:nvPr/>
        </p:nvSpPr>
        <p:spPr>
          <a:xfrm>
            <a:off x="4041720" y="4038480"/>
            <a:ext cx="546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Times New Roman"/>
              </a:rPr>
              <a:t>С областям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2" name="Object 12"/>
          <p:cNvGraphicFramePr/>
          <p:nvPr/>
        </p:nvGraphicFramePr>
        <p:xfrm>
          <a:off x="4876920" y="3505320"/>
          <a:ext cx="3962160" cy="3352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505320"/>
                    <a:ext cx="39621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AutoShape 14"/>
          <p:cNvSpPr/>
          <p:nvPr/>
        </p:nvSpPr>
        <p:spPr>
          <a:xfrm>
            <a:off x="8388360" y="6237360"/>
            <a:ext cx="576360" cy="620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20640"/>
              <a:gd name="textAreaBottom" fmla="*/ 583560 h 620640"/>
            </a:gdLst>
            <a:ahLst/>
            <a:rect l="textAreaLeft" t="textAreaTop" r="textAreaRight" b="textAreaBottom"/>
            <a:pathLst>
              <a:path w="21600" h="23258">
                <a:moveTo>
                  <a:pt x="0" y="0"/>
                </a:moveTo>
                <a:lnTo>
                  <a:pt x="21600" y="0"/>
                </a:lnTo>
                <a:lnTo>
                  <a:pt x="21600" y="23258"/>
                </a:lnTo>
                <a:lnTo>
                  <a:pt x="0" y="23258"/>
                </a:lnTo>
                <a:close/>
              </a:path>
              <a:path fill="lightenLess" w="21600" h="232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8">
                <a:moveTo>
                  <a:pt x="21600" y="0"/>
                </a:moveTo>
                <a:lnTo>
                  <a:pt x="21600" y="23258"/>
                </a:lnTo>
                <a:lnTo>
                  <a:pt x="20200" y="21858"/>
                </a:lnTo>
                <a:lnTo>
                  <a:pt x="20200" y="1400"/>
                </a:lnTo>
                <a:close/>
              </a:path>
              <a:path fill="darkenLess" w="21600" h="23258">
                <a:moveTo>
                  <a:pt x="21600" y="23258"/>
                </a:moveTo>
                <a:lnTo>
                  <a:pt x="0" y="23258"/>
                </a:lnTo>
                <a:lnTo>
                  <a:pt x="1400" y="21858"/>
                </a:lnTo>
                <a:lnTo>
                  <a:pt x="20200" y="21858"/>
                </a:lnTo>
                <a:close/>
              </a:path>
              <a:path fill="lighten" w="21600" h="23258">
                <a:moveTo>
                  <a:pt x="0" y="232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8"/>
                </a:lnTo>
                <a:close/>
              </a:path>
              <a:path fill="darken" w="21600" h="23258">
                <a:moveTo>
                  <a:pt x="3794" y="4623"/>
                </a:moveTo>
                <a:lnTo>
                  <a:pt x="17806" y="11629"/>
                </a:lnTo>
                <a:lnTo>
                  <a:pt x="3794" y="1863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AutoShape 15"/>
          <p:cNvSpPr/>
          <p:nvPr/>
        </p:nvSpPr>
        <p:spPr>
          <a:xfrm>
            <a:off x="8388360" y="3141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AutoShape 18">
            <a:hlinkClick r:id="" action="ppaction://hlinkshowjump?jump=lastslide"/>
          </p:cNvPr>
          <p:cNvSpPr/>
          <p:nvPr/>
        </p:nvSpPr>
        <p:spPr>
          <a:xfrm>
            <a:off x="6732720" y="6381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13060" y="3837"/>
                </a:moveTo>
                <a:lnTo>
                  <a:pt x="15636" y="6448"/>
                </a:lnTo>
                <a:lnTo>
                  <a:pt x="15636" y="4707"/>
                </a:lnTo>
                <a:lnTo>
                  <a:pt x="17411" y="4707"/>
                </a:lnTo>
                <a:lnTo>
                  <a:pt x="17411" y="8224"/>
                </a:lnTo>
                <a:lnTo>
                  <a:pt x="20022" y="10800"/>
                </a:lnTo>
                <a:lnTo>
                  <a:pt x="18369" y="10800"/>
                </a:lnTo>
                <a:lnTo>
                  <a:pt x="18369" y="17989"/>
                </a:lnTo>
                <a:lnTo>
                  <a:pt x="7750" y="17989"/>
                </a:lnTo>
                <a:lnTo>
                  <a:pt x="7750" y="10800"/>
                </a:lnTo>
                <a:lnTo>
                  <a:pt x="6097" y="10800"/>
                </a:lnTo>
                <a:close/>
              </a:path>
              <a:path fill="darkenLess" w="26119" h="21600">
                <a:moveTo>
                  <a:pt x="15636" y="6448"/>
                </a:moveTo>
                <a:lnTo>
                  <a:pt x="15636" y="4707"/>
                </a:lnTo>
                <a:lnTo>
                  <a:pt x="17411" y="4707"/>
                </a:lnTo>
                <a:lnTo>
                  <a:pt x="17411" y="8224"/>
                </a:lnTo>
                <a:close/>
              </a:path>
              <a:path fill="darkenLess" w="26119" h="21600">
                <a:moveTo>
                  <a:pt x="12137" y="14299"/>
                </a:moveTo>
                <a:lnTo>
                  <a:pt x="13982" y="14299"/>
                </a:lnTo>
                <a:lnTo>
                  <a:pt x="13982" y="17989"/>
                </a:lnTo>
                <a:lnTo>
                  <a:pt x="18369" y="17989"/>
                </a:lnTo>
                <a:lnTo>
                  <a:pt x="18369" y="10800"/>
                </a:lnTo>
                <a:lnTo>
                  <a:pt x="7750" y="10800"/>
                </a:lnTo>
                <a:lnTo>
                  <a:pt x="7750" y="17989"/>
                </a:lnTo>
                <a:lnTo>
                  <a:pt x="12137" y="17989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1" lang="ru-RU" sz="2400" spc="-1" strike="noStrike" u="sng">
                <a:solidFill>
                  <a:srgbClr val="003399"/>
                </a:solidFill>
                <a:uFillTx/>
                <a:latin typeface="Times New Roman"/>
              </a:rPr>
              <a:t>Круговая диаграмма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  показывает отношение размеров элементов, образующих ряд данных,   к сумме элементов. Всегда отображается только   один   ряд   данных.   Такой  тип диаграмм    целесообразно использовать, когда необходимо подчеркнуть важный элемент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-304920" y="1371600"/>
          <a:ext cx="51818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1371600"/>
                    <a:ext cx="51818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4"/>
          <p:cNvSpPr/>
          <p:nvPr/>
        </p:nvSpPr>
        <p:spPr>
          <a:xfrm>
            <a:off x="0" y="5105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Для  облегчения  работы  с  маленькими  секторами  в основной диаграмме их можно объединить в один элемент, а затем разбить в отдельную диаграмму рядом с основно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5029200" y="2209680"/>
          <a:ext cx="380988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209680"/>
                    <a:ext cx="38098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 Box 6"/>
          <p:cNvSpPr/>
          <p:nvPr/>
        </p:nvSpPr>
        <p:spPr>
          <a:xfrm>
            <a:off x="2484360" y="184464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Продажа обедо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78487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7493"/>
                </a:moveTo>
                <a:lnTo>
                  <a:pt x="13462" y="7493"/>
                </a:lnTo>
                <a:lnTo>
                  <a:pt x="13462" y="12828"/>
                </a:lnTo>
                <a:cubicBezTo>
                  <a:pt x="13462" y="13751"/>
                  <a:pt x="14263" y="14482"/>
                  <a:pt x="15299" y="14482"/>
                </a:cubicBezTo>
                <a:lnTo>
                  <a:pt x="16961" y="14482"/>
                </a:lnTo>
                <a:cubicBezTo>
                  <a:pt x="17997" y="14482"/>
                  <a:pt x="18798" y="13751"/>
                  <a:pt x="18798" y="12828"/>
                </a:cubicBezTo>
                <a:lnTo>
                  <a:pt x="18798" y="7493"/>
                </a:lnTo>
                <a:lnTo>
                  <a:pt x="16961" y="7493"/>
                </a:lnTo>
                <a:lnTo>
                  <a:pt x="20469" y="3985"/>
                </a:lnTo>
                <a:lnTo>
                  <a:pt x="24142" y="7493"/>
                </a:lnTo>
                <a:lnTo>
                  <a:pt x="22305" y="7493"/>
                </a:lnTo>
                <a:lnTo>
                  <a:pt x="22305" y="12828"/>
                </a:lnTo>
                <a:cubicBezTo>
                  <a:pt x="22305" y="15596"/>
                  <a:pt x="19729" y="18155"/>
                  <a:pt x="16961" y="18155"/>
                </a:cubicBezTo>
                <a:lnTo>
                  <a:pt x="15299" y="18155"/>
                </a:lnTo>
                <a:cubicBezTo>
                  <a:pt x="12531" y="18155"/>
                  <a:pt x="9955" y="15596"/>
                  <a:pt x="9955" y="1282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04920" y="3808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Как и круговая диаграмма, </a:t>
            </a:r>
            <a:r>
              <a:rPr b="1" lang="ru-RU" sz="2400" spc="-1" strike="noStrike" u="sng">
                <a:solidFill>
                  <a:srgbClr val="003399"/>
                </a:solidFill>
                <a:uFillTx/>
                <a:latin typeface="Times New Roman"/>
              </a:rPr>
              <a:t>кольцевая диаграмма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 показывает отношение  частей  к  целому,  но  этот  тип  диаграммы может включать несколько рядов данных. Каждое кольцо в кольцевой диаграмме соответствует одному ряду данных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990720" y="220968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AutoShape 4"/>
          <p:cNvSpPr/>
          <p:nvPr/>
        </p:nvSpPr>
        <p:spPr>
          <a:xfrm>
            <a:off x="7772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7493"/>
                </a:moveTo>
                <a:lnTo>
                  <a:pt x="10899" y="7493"/>
                </a:lnTo>
                <a:lnTo>
                  <a:pt x="10899" y="12828"/>
                </a:lnTo>
                <a:cubicBezTo>
                  <a:pt x="10899" y="13751"/>
                  <a:pt x="11700" y="14482"/>
                  <a:pt x="12736" y="14482"/>
                </a:cubicBezTo>
                <a:lnTo>
                  <a:pt x="14398" y="14482"/>
                </a:lnTo>
                <a:cubicBezTo>
                  <a:pt x="15434" y="14482"/>
                  <a:pt x="16235" y="13751"/>
                  <a:pt x="16235" y="12828"/>
                </a:cubicBezTo>
                <a:lnTo>
                  <a:pt x="16235" y="7493"/>
                </a:lnTo>
                <a:lnTo>
                  <a:pt x="14398" y="7493"/>
                </a:lnTo>
                <a:lnTo>
                  <a:pt x="17906" y="3985"/>
                </a:lnTo>
                <a:lnTo>
                  <a:pt x="21579" y="7493"/>
                </a:lnTo>
                <a:lnTo>
                  <a:pt x="19742" y="7493"/>
                </a:lnTo>
                <a:lnTo>
                  <a:pt x="19742" y="12828"/>
                </a:lnTo>
                <a:cubicBezTo>
                  <a:pt x="19742" y="15596"/>
                  <a:pt x="17166" y="18155"/>
                  <a:pt x="14398" y="18155"/>
                </a:cubicBezTo>
                <a:lnTo>
                  <a:pt x="12736" y="18155"/>
                </a:lnTo>
                <a:cubicBezTo>
                  <a:pt x="9968" y="18155"/>
                  <a:pt x="7392" y="15596"/>
                  <a:pt x="7392" y="1282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57200" y="228600"/>
            <a:ext cx="857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ru-RU" sz="2400" spc="-1" strike="noStrike" u="sng">
                <a:solidFill>
                  <a:srgbClr val="003399"/>
                </a:solidFill>
                <a:uFillTx/>
                <a:latin typeface="Times New Roman"/>
              </a:rPr>
              <a:t>Линейчатая диаграмма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 позволяет сравнивать отдельные значения. Ось категорий расположена по вертикали, ось значений – по горизонтали. Это позволяет обратить большее внимание на сравниваемые значения, чем на время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228600" y="1905120"/>
          <a:ext cx="3962520" cy="33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396252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4"/>
          <p:cNvSpPr/>
          <p:nvPr/>
        </p:nvSpPr>
        <p:spPr>
          <a:xfrm>
            <a:off x="304920" y="548784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Линейчатая диаграмма с накоплением показывает вклад отдельных элементов в общую сумм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3" name="Object 5"/>
          <p:cNvGraphicFramePr/>
          <p:nvPr/>
        </p:nvGraphicFramePr>
        <p:xfrm>
          <a:off x="4191120" y="1905120"/>
          <a:ext cx="4809960" cy="33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1905120"/>
                    <a:ext cx="48099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AutoShape 6"/>
          <p:cNvSpPr/>
          <p:nvPr/>
        </p:nvSpPr>
        <p:spPr>
          <a:xfrm>
            <a:off x="8001000" y="62485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7493"/>
                </a:moveTo>
                <a:lnTo>
                  <a:pt x="18093" y="7493"/>
                </a:lnTo>
                <a:lnTo>
                  <a:pt x="18093" y="12828"/>
                </a:lnTo>
                <a:cubicBezTo>
                  <a:pt x="18093" y="13751"/>
                  <a:pt x="18893" y="14482"/>
                  <a:pt x="19929" y="14482"/>
                </a:cubicBezTo>
                <a:lnTo>
                  <a:pt x="21592" y="14482"/>
                </a:lnTo>
                <a:cubicBezTo>
                  <a:pt x="22627" y="14482"/>
                  <a:pt x="23428" y="13751"/>
                  <a:pt x="23428" y="12828"/>
                </a:cubicBezTo>
                <a:lnTo>
                  <a:pt x="23428" y="7493"/>
                </a:lnTo>
                <a:lnTo>
                  <a:pt x="21592" y="7493"/>
                </a:lnTo>
                <a:lnTo>
                  <a:pt x="25099" y="3985"/>
                </a:lnTo>
                <a:lnTo>
                  <a:pt x="28772" y="7493"/>
                </a:lnTo>
                <a:lnTo>
                  <a:pt x="26936" y="7493"/>
                </a:lnTo>
                <a:lnTo>
                  <a:pt x="26936" y="12828"/>
                </a:lnTo>
                <a:cubicBezTo>
                  <a:pt x="26936" y="15596"/>
                  <a:pt x="24359" y="18155"/>
                  <a:pt x="21592" y="18155"/>
                </a:cubicBezTo>
                <a:lnTo>
                  <a:pt x="19929" y="18155"/>
                </a:lnTo>
                <a:cubicBezTo>
                  <a:pt x="17161" y="18155"/>
                  <a:pt x="14585" y="15596"/>
                  <a:pt x="14585" y="1282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ru-RU" sz="2400" spc="-1" strike="noStrike" u="sng">
                <a:solidFill>
                  <a:srgbClr val="003399"/>
                </a:solidFill>
                <a:uFillTx/>
                <a:latin typeface="Times New Roman"/>
              </a:rPr>
              <a:t>Гистограмма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   позволяет   представить    изменение  данных   на протяжении отрезка времени. Диаграммы этого типа удобны также для   наглядного   сравнения   отдельных  величин. Ось категорий в гистограмме   располагается   по   горизонтали,   ось  значений – по вертикали.   Такое    расположение   осей   подчеркивает    характер изменения значений по времени</a:t>
            </a:r>
            <a:r>
              <a:rPr b="0" lang="ru-RU" sz="24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7" name="Object 0"/>
          <p:cNvGraphicFramePr/>
          <p:nvPr/>
        </p:nvGraphicFramePr>
        <p:xfrm>
          <a:off x="0" y="2209680"/>
          <a:ext cx="3886200" cy="28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3886200" cy="28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4"/>
          <p:cNvSpPr/>
          <p:nvPr/>
        </p:nvSpPr>
        <p:spPr>
          <a:xfrm>
            <a:off x="0" y="4940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ru-RU" sz="2400" spc="-1" strike="noStrike" u="sng">
                <a:solidFill>
                  <a:srgbClr val="003399"/>
                </a:solidFill>
                <a:uFillTx/>
                <a:latin typeface="Times New Roman"/>
              </a:rPr>
              <a:t>Гистограмма  с  накоплением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  позволяет  представить  отношение отдельных  составляющих  к  их  совокупному значению.   На объемной   гистограмме   с   перспективой  сравниваемые  значения располагаются в плоскости (вдоль двух осей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0" name="Object 1"/>
          <p:cNvGraphicFramePr/>
          <p:nvPr/>
        </p:nvGraphicFramePr>
        <p:xfrm>
          <a:off x="4356000" y="1484280"/>
          <a:ext cx="4483080" cy="41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484280"/>
                    <a:ext cx="44830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AutoShape 6"/>
          <p:cNvSpPr/>
          <p:nvPr/>
        </p:nvSpPr>
        <p:spPr>
          <a:xfrm>
            <a:off x="8458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493"/>
                </a:moveTo>
                <a:lnTo>
                  <a:pt x="12697" y="7493"/>
                </a:lnTo>
                <a:lnTo>
                  <a:pt x="12697" y="12828"/>
                </a:lnTo>
                <a:cubicBezTo>
                  <a:pt x="12697" y="13751"/>
                  <a:pt x="13498" y="14482"/>
                  <a:pt x="14533" y="14482"/>
                </a:cubicBezTo>
                <a:lnTo>
                  <a:pt x="16196" y="14482"/>
                </a:lnTo>
                <a:cubicBezTo>
                  <a:pt x="17231" y="14482"/>
                  <a:pt x="18032" y="13751"/>
                  <a:pt x="18032" y="12828"/>
                </a:cubicBezTo>
                <a:lnTo>
                  <a:pt x="18032" y="7493"/>
                </a:lnTo>
                <a:lnTo>
                  <a:pt x="16196" y="7493"/>
                </a:lnTo>
                <a:lnTo>
                  <a:pt x="19703" y="3985"/>
                </a:lnTo>
                <a:lnTo>
                  <a:pt x="23376" y="7493"/>
                </a:lnTo>
                <a:lnTo>
                  <a:pt x="21540" y="7493"/>
                </a:lnTo>
                <a:lnTo>
                  <a:pt x="21540" y="12828"/>
                </a:lnTo>
                <a:cubicBezTo>
                  <a:pt x="21540" y="15596"/>
                  <a:pt x="18964" y="18155"/>
                  <a:pt x="16196" y="18155"/>
                </a:cubicBezTo>
                <a:lnTo>
                  <a:pt x="14533" y="18155"/>
                </a:lnTo>
                <a:cubicBezTo>
                  <a:pt x="11766" y="18155"/>
                  <a:pt x="9189" y="15596"/>
                  <a:pt x="9189" y="1282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33520" y="3049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На </a:t>
            </a:r>
            <a:r>
              <a:rPr b="1" lang="ru-RU" sz="2400" spc="-1" strike="noStrike" u="sng">
                <a:solidFill>
                  <a:srgbClr val="003399"/>
                </a:solidFill>
                <a:uFillTx/>
                <a:latin typeface="Times New Roman"/>
              </a:rPr>
              <a:t>графике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 с равными промежутками представлены прогнозируемые значения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4" name="Object 3"/>
          <p:cNvGraphicFramePr/>
          <p:nvPr/>
        </p:nvGraphicFramePr>
        <p:xfrm>
          <a:off x="1066680" y="1905120"/>
          <a:ext cx="723924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72392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AutoShape 4"/>
          <p:cNvSpPr/>
          <p:nvPr/>
        </p:nvSpPr>
        <p:spPr>
          <a:xfrm>
            <a:off x="792468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7493"/>
                </a:moveTo>
                <a:lnTo>
                  <a:pt x="11926" y="7493"/>
                </a:lnTo>
                <a:lnTo>
                  <a:pt x="11926" y="12828"/>
                </a:lnTo>
                <a:cubicBezTo>
                  <a:pt x="11926" y="13751"/>
                  <a:pt x="12726" y="14482"/>
                  <a:pt x="13762" y="14482"/>
                </a:cubicBezTo>
                <a:lnTo>
                  <a:pt x="15424" y="14482"/>
                </a:lnTo>
                <a:cubicBezTo>
                  <a:pt x="16460" y="14482"/>
                  <a:pt x="17261" y="13751"/>
                  <a:pt x="17261" y="12828"/>
                </a:cubicBezTo>
                <a:lnTo>
                  <a:pt x="17261" y="7493"/>
                </a:lnTo>
                <a:lnTo>
                  <a:pt x="15424" y="7493"/>
                </a:lnTo>
                <a:lnTo>
                  <a:pt x="18932" y="3985"/>
                </a:lnTo>
                <a:lnTo>
                  <a:pt x="22605" y="7493"/>
                </a:lnTo>
                <a:lnTo>
                  <a:pt x="20768" y="7493"/>
                </a:lnTo>
                <a:lnTo>
                  <a:pt x="20768" y="12828"/>
                </a:lnTo>
                <a:cubicBezTo>
                  <a:pt x="20768" y="15596"/>
                  <a:pt x="18192" y="18155"/>
                  <a:pt x="15424" y="18155"/>
                </a:cubicBezTo>
                <a:lnTo>
                  <a:pt x="13762" y="18155"/>
                </a:lnTo>
                <a:cubicBezTo>
                  <a:pt x="10994" y="18155"/>
                  <a:pt x="8418" y="15596"/>
                  <a:pt x="8418" y="1282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04920" y="304920"/>
            <a:ext cx="858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ru-RU" sz="2400" spc="-1" strike="noStrike" u="sng">
                <a:solidFill>
                  <a:srgbClr val="003399"/>
                </a:solidFill>
                <a:uFillTx/>
                <a:latin typeface="Times New Roman"/>
              </a:rPr>
              <a:t>Диаграмма с областями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 подчеркивает изменение с течением времени.   Отображая сумму значений рядов, такая диаграмма наглядно показывает вклад каждого ряда</a:t>
            </a:r>
            <a:r>
              <a:rPr b="0" lang="ru-RU" sz="24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1295280" y="2057400"/>
          <a:ext cx="64008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057400"/>
                    <a:ext cx="64008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AutoShape 4"/>
          <p:cNvSpPr/>
          <p:nvPr/>
        </p:nvSpPr>
        <p:spPr>
          <a:xfrm>
            <a:off x="8153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7493"/>
                </a:moveTo>
                <a:lnTo>
                  <a:pt x="10382" y="7493"/>
                </a:lnTo>
                <a:lnTo>
                  <a:pt x="10382" y="12828"/>
                </a:lnTo>
                <a:cubicBezTo>
                  <a:pt x="10382" y="13751"/>
                  <a:pt x="11182" y="14482"/>
                  <a:pt x="12218" y="14482"/>
                </a:cubicBezTo>
                <a:lnTo>
                  <a:pt x="13881" y="14482"/>
                </a:lnTo>
                <a:cubicBezTo>
                  <a:pt x="14916" y="14482"/>
                  <a:pt x="15717" y="13751"/>
                  <a:pt x="15717" y="12828"/>
                </a:cubicBezTo>
                <a:lnTo>
                  <a:pt x="15717" y="7493"/>
                </a:lnTo>
                <a:lnTo>
                  <a:pt x="13881" y="7493"/>
                </a:lnTo>
                <a:lnTo>
                  <a:pt x="17388" y="3985"/>
                </a:lnTo>
                <a:lnTo>
                  <a:pt x="21061" y="7493"/>
                </a:lnTo>
                <a:lnTo>
                  <a:pt x="19225" y="7493"/>
                </a:lnTo>
                <a:lnTo>
                  <a:pt x="19225" y="12828"/>
                </a:lnTo>
                <a:cubicBezTo>
                  <a:pt x="19225" y="15596"/>
                  <a:pt x="16648" y="18155"/>
                  <a:pt x="13881" y="18155"/>
                </a:cubicBezTo>
                <a:lnTo>
                  <a:pt x="12218" y="18155"/>
                </a:lnTo>
                <a:cubicBezTo>
                  <a:pt x="9450" y="18155"/>
                  <a:pt x="6874" y="15596"/>
                  <a:pt x="6874" y="1282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28800" y="24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Times New Roman"/>
              </a:rPr>
              <a:t>Практическая работа</a:t>
            </a: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755640" y="685800"/>
            <a:ext cx="7993080" cy="59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Контрольные вопросы</a:t>
            </a:r>
            <a:r>
              <a:rPr b="0" lang="ru-RU" sz="36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- На какие 3 группы можно условно разделить диаграммы?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- Какие диаграммы применяются при отображении изменения величин во времени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- Какие диаграммы применяются при отображении  соотношения величин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- Какие диаграммы применяются при отображении изменения величин во времени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- Какие диаграммы проще, сложнее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- Какие диаграммы больше понравились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89840" cy="34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Лило Юлия Геннадьевна</a:t>
            </a:r>
            <a:br>
              <a:rPr sz="4000"/>
            </a:b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учитель информатики Колосовской школы Северо-Казахстанской области района М.Жумабаева </a:t>
            </a:r>
            <a:br>
              <a:rPr sz="4000"/>
            </a:b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с. Новотроицкое</a:t>
            </a:r>
            <a:endParaRPr b="0" lang="en-US" sz="4000" spc="-1" strike="noStrike">
              <a:solidFill>
                <a:srgbClr val="66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 u="sng">
                <a:solidFill>
                  <a:srgbClr val="003399"/>
                </a:solidFill>
                <a:uFillTx/>
                <a:latin typeface="Times New Roman"/>
              </a:rPr>
              <a:t>Тестирование по теме "Электронные таблицы"</a:t>
            </a:r>
            <a:br>
              <a:rPr sz="4400"/>
            </a:b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5800" y="1981080"/>
          <a:ext cx="7772400" cy="40546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49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Если в ячейке электронной таблицы отображается последовательность символов ######, то это означает, что: 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) формула записана с ошибкой;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) в формуле есть ссылка на пустую клетку;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) в формуле есть циклическая ссылка;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) столбец недостаточно широк.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 .Выберите верный адрес ячейки в электронной таблице: 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)11D;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)F12;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)АБ3;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)В1А.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12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В электронной таблице ячейкой называют: 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горизонтальную строку;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вертикальный столбец;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пересечение строки и столбца;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курсор– рамку на экране.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В ячейке электронной таблицы не может находиться: 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число;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текст;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лист;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формула.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28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В электронной таблице невозможно удалить: 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строку;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столбец;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содержимое ячейки;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имя ячейки.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Ввод формул в таблицу начинается обычно со знака: 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$;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f;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*;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=.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Times New Roman"/>
              </a:rPr>
              <a:t>Кроссворд </a:t>
            </a: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285920" y="1571760"/>
          <a:ext cx="6786360" cy="4786200"/>
        </p:xfrm>
        <a:graphic>
          <a:graphicData uri="http://schemas.openxmlformats.org/drawingml/2006/table">
            <a:tbl>
              <a:tblPr/>
              <a:tblGrid>
                <a:gridCol w="517320"/>
                <a:gridCol w="517680"/>
                <a:gridCol w="536760"/>
                <a:gridCol w="358560"/>
                <a:gridCol w="557280"/>
                <a:gridCol w="377640"/>
                <a:gridCol w="517680"/>
                <a:gridCol w="378000"/>
                <a:gridCol w="377640"/>
                <a:gridCol w="379440"/>
                <a:gridCol w="377640"/>
                <a:gridCol w="378000"/>
                <a:gridCol w="377640"/>
                <a:gridCol w="379440"/>
                <a:gridCol w="378000"/>
                <a:gridCol w="377640"/>
              </a:tblGrid>
              <a:tr h="531720"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2080"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080"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Times New Roman"/>
              </a:rPr>
              <a:t>Кроссворд</a:t>
            </a: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85960" y="1930320"/>
          <a:ext cx="5429160" cy="411480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  <a:gridCol w="412560"/>
                <a:gridCol w="303480"/>
                <a:gridCol w="444240"/>
                <a:gridCol w="303480"/>
                <a:gridCol w="414360"/>
                <a:gridCol w="301320"/>
                <a:gridCol w="303480"/>
                <a:gridCol w="301320"/>
                <a:gridCol w="303480"/>
                <a:gridCol w="303120"/>
                <a:gridCol w="301680"/>
                <a:gridCol w="303120"/>
                <a:gridCol w="301680"/>
                <a:gridCol w="303120"/>
              </a:tblGrid>
              <a:tr h="457200"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  <a:ea typeface="Times New Roman"/>
                        </a:rPr>
                        <a:t>д 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н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ф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р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а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ц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я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а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  <a:ea typeface="Times New Roman"/>
                        </a:rPr>
                        <a:t>а 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г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а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б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а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й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т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п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р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н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т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е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  <a:ea typeface="Times New Roman"/>
                        </a:rPr>
                        <a:t>р 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а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р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е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е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  <a:ea typeface="Times New Roman"/>
                        </a:rPr>
                        <a:t>м 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ы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ш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ь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ч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е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й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  <a:ea typeface="Times New Roman"/>
                        </a:rPr>
                        <a:t>а </a:t>
                      </a: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28440" bIns="2844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Times New Roman"/>
              </a:rPr>
              <a:t>Диаграмма</a:t>
            </a: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7160" y="2714760"/>
            <a:ext cx="75009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Диаграмма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– это представление данных таблицы в графическом виде, которое используется для анализа и сравнения данных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ТИП ДИАГРАММЫ</a:t>
            </a:r>
            <a:endParaRPr b="0" lang="en-US" sz="4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2700360" y="1628640"/>
            <a:ext cx="3816360" cy="49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Круговая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Кольцева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Линейчатая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Графи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Гисторамма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С областями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Organization Chart 7"/>
          <p:cNvGrpSpPr/>
          <p:nvPr/>
        </p:nvGrpSpPr>
        <p:grpSpPr>
          <a:xfrm>
            <a:off x="539640" y="476280"/>
            <a:ext cx="8063640" cy="5830560"/>
            <a:chOff x="539640" y="476280"/>
            <a:chExt cx="8063640" cy="5830560"/>
          </a:xfrm>
        </p:grpSpPr>
        <p:cxnSp>
          <p:nvCxnSpPr>
            <p:cNvPr id="54" name="_s1028"/>
            <p:cNvCxnSpPr>
              <a:stCxn id="55" idx="0"/>
              <a:endCxn id="56" idx="2"/>
            </p:cNvCxnSpPr>
            <p:nvPr/>
          </p:nvCxnSpPr>
          <p:spPr>
            <a:xfrm flipV="1" rot="16200000">
              <a:off x="5073480" y="2305080"/>
              <a:ext cx="1166760" cy="217188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3399"/>
              </a:solidFill>
              <a:miter/>
            </a:ln>
          </p:spPr>
        </p:cxnSp>
        <p:cxnSp>
          <p:nvCxnSpPr>
            <p:cNvPr id="57" name="_s1029"/>
            <p:cNvCxnSpPr>
              <a:stCxn id="58" idx="0"/>
              <a:endCxn id="56" idx="2"/>
            </p:cNvCxnSpPr>
            <p:nvPr/>
          </p:nvCxnSpPr>
          <p:spPr>
            <a:xfrm flipH="1" flipV="1" rot="5400000">
              <a:off x="2902320" y="2305440"/>
              <a:ext cx="1166760" cy="217116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3399"/>
              </a:solidFill>
              <a:miter/>
            </a:ln>
          </p:spPr>
        </p:cxnSp>
        <p:sp>
          <p:nvSpPr>
            <p:cNvPr id="56" name="_s1030"/>
            <p:cNvSpPr/>
            <p:nvPr/>
          </p:nvSpPr>
          <p:spPr>
            <a:xfrm>
              <a:off x="2710080" y="476280"/>
              <a:ext cx="3721680" cy="23320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003399"/>
                  </a:solidFill>
                  <a:latin typeface="Times New Roman"/>
                </a:rPr>
                <a:t>ВИД </a:t>
              </a:r>
              <a:endParaRPr b="0" lang="en-US" sz="37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003399"/>
                  </a:solidFill>
                  <a:latin typeface="Times New Roman"/>
                </a:rPr>
                <a:t>ДИАГРАММЫ</a:t>
              </a:r>
              <a:endParaRPr b="0" lang="en-US" sz="3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_s1031"/>
            <p:cNvSpPr/>
            <p:nvPr/>
          </p:nvSpPr>
          <p:spPr>
            <a:xfrm>
              <a:off x="539640" y="3974760"/>
              <a:ext cx="3721680" cy="23320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003399"/>
                  </a:solidFill>
                  <a:latin typeface="Times New Roman"/>
                </a:rPr>
                <a:t>Плоская</a:t>
              </a:r>
              <a:endParaRPr b="0" lang="en-US" sz="3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_s1032"/>
            <p:cNvSpPr/>
            <p:nvPr/>
          </p:nvSpPr>
          <p:spPr>
            <a:xfrm>
              <a:off x="4881600" y="3974760"/>
              <a:ext cx="3721680" cy="23320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003399"/>
                  </a:solidFill>
                  <a:latin typeface="Times New Roman"/>
                </a:rPr>
                <a:t>Объемная</a:t>
              </a:r>
              <a:endParaRPr b="0" lang="en-US" sz="3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990720"/>
          <a:ext cx="36576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36576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ТИП ДИАГРАММЫ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3962520" y="533520"/>
            <a:ext cx="0" cy="632448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0" y="609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00cc"/>
                </a:solidFill>
                <a:uFillTx/>
                <a:latin typeface="Times New Roman"/>
              </a:rPr>
              <a:t>Плоска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4572000" y="533520"/>
            <a:ext cx="0" cy="632448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041720" y="1371600"/>
            <a:ext cx="546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00cc"/>
                </a:solidFill>
                <a:uFillTx/>
                <a:latin typeface="Times New Roman"/>
                <a:hlinkClick r:id="rId3" action="ppaction://hlinksldjump"/>
              </a:rPr>
              <a:t>Кругова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105520" y="609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00cc"/>
                </a:solidFill>
                <a:uFillTx/>
                <a:latin typeface="Times New Roman"/>
              </a:rPr>
              <a:t>Объемна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7" name="Object 9" descr=""/>
          <p:cNvPicPr/>
          <p:nvPr/>
        </p:nvPicPr>
        <p:blipFill>
          <a:blip r:embed="rId4"/>
          <a:stretch/>
        </p:blipFill>
        <p:spPr>
          <a:xfrm>
            <a:off x="4800600" y="838080"/>
            <a:ext cx="3581280" cy="3124440"/>
          </a:xfrm>
          <a:prstGeom prst="rect">
            <a:avLst/>
          </a:prstGeom>
          <a:ln w="0">
            <a:noFill/>
          </a:ln>
        </p:spPr>
      </p:pic>
      <p:pic>
        <p:nvPicPr>
          <p:cNvPr id="68" name="Object 10" descr=""/>
          <p:cNvPicPr/>
          <p:nvPr/>
        </p:nvPicPr>
        <p:blipFill>
          <a:blip r:embed="rId5"/>
          <a:stretch/>
        </p:blipFill>
        <p:spPr>
          <a:xfrm>
            <a:off x="0" y="3886200"/>
            <a:ext cx="3657600" cy="2440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1">
            <a:hlinkClick r:id="rId6" action="ppaction://hlinksldjump"/>
          </p:cNvPr>
          <p:cNvSpPr/>
          <p:nvPr/>
        </p:nvSpPr>
        <p:spPr>
          <a:xfrm>
            <a:off x="4041720" y="4419720"/>
            <a:ext cx="54612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Times New Roman"/>
              </a:rPr>
              <a:t>Кольцева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AutoShape 13">
            <a:hlinkClick r:id="rId7" action="ppaction://hlinksldjump"/>
          </p:cNvPr>
          <p:cNvSpPr/>
          <p:nvPr/>
        </p:nvSpPr>
        <p:spPr>
          <a:xfrm>
            <a:off x="8172360" y="3213000"/>
            <a:ext cx="649440" cy="505080"/>
          </a:xfrm>
          <a:custGeom>
            <a:avLst/>
            <a:gdLst>
              <a:gd name="textAreaLeft" fmla="*/ 32760 w 649440"/>
              <a:gd name="textAreaRight" fmla="*/ 617040 w 6494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6878" y="3794"/>
                </a:moveTo>
                <a:lnTo>
                  <a:pt x="20891" y="10800"/>
                </a:lnTo>
                <a:lnTo>
                  <a:pt x="6878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AutoShape 16">
            <a:hlinkClick r:id="rId8" action="ppaction://hlinksldjump"/>
          </p:cNvPr>
          <p:cNvSpPr/>
          <p:nvPr/>
        </p:nvSpPr>
        <p:spPr>
          <a:xfrm>
            <a:off x="817236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152280" y="1219320"/>
          <a:ext cx="36576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19320"/>
                    <a:ext cx="36576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ТИП ДИАГРАММЫ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Line 4"/>
          <p:cNvSpPr/>
          <p:nvPr/>
        </p:nvSpPr>
        <p:spPr>
          <a:xfrm>
            <a:off x="3962520" y="533520"/>
            <a:ext cx="0" cy="632448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0" y="609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00cc"/>
                </a:solidFill>
                <a:uFillTx/>
                <a:latin typeface="Times New Roman"/>
              </a:rPr>
              <a:t>Плоска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>
            <a:off x="4800600" y="533520"/>
            <a:ext cx="0" cy="632448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4194000" y="1600200"/>
            <a:ext cx="546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  <a:hlinkClick r:id="rId3" action="ppaction://hlinksldjump"/>
              </a:rPr>
              <a:t>Линейчата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105520" y="609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00cc"/>
                </a:solidFill>
                <a:uFillTx/>
                <a:latin typeface="Times New Roman"/>
              </a:rPr>
              <a:t>Объемна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80" name="Object 9"/>
          <p:cNvGraphicFramePr/>
          <p:nvPr/>
        </p:nvGraphicFramePr>
        <p:xfrm>
          <a:off x="5105520" y="1143000"/>
          <a:ext cx="3581280" cy="2390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05520" y="1143000"/>
                    <a:ext cx="358128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0"/>
          <p:cNvGraphicFramePr/>
          <p:nvPr/>
        </p:nvGraphicFramePr>
        <p:xfrm>
          <a:off x="152280" y="3886200"/>
          <a:ext cx="3657600" cy="2440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3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280" y="3886200"/>
                    <a:ext cx="365760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11"/>
          <p:cNvSpPr/>
          <p:nvPr/>
        </p:nvSpPr>
        <p:spPr>
          <a:xfrm>
            <a:off x="4118040" y="4267080"/>
            <a:ext cx="546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  <a:hlinkClick r:id="rId8" action="ppaction://hlinksldjump"/>
              </a:rPr>
              <a:t>Гисторамм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85" name="Object 12"/>
          <p:cNvGraphicFramePr/>
          <p:nvPr/>
        </p:nvGraphicFramePr>
        <p:xfrm>
          <a:off x="5181480" y="3962520"/>
          <a:ext cx="3657600" cy="244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3962520"/>
                    <a:ext cx="3657600" cy="24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AutoShape 13"/>
          <p:cNvSpPr/>
          <p:nvPr/>
        </p:nvSpPr>
        <p:spPr>
          <a:xfrm>
            <a:off x="8317080" y="6237360"/>
            <a:ext cx="718920" cy="476280"/>
          </a:xfrm>
          <a:custGeom>
            <a:avLst/>
            <a:gdLst>
              <a:gd name="textAreaLeft" fmla="*/ 30600 w 718920"/>
              <a:gd name="textAreaRight" fmla="*/ 688320 w 718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596" h="21600">
                <a:moveTo>
                  <a:pt x="0" y="0"/>
                </a:moveTo>
                <a:lnTo>
                  <a:pt x="32596" y="0"/>
                </a:lnTo>
                <a:lnTo>
                  <a:pt x="32596" y="21600"/>
                </a:lnTo>
                <a:lnTo>
                  <a:pt x="0" y="21600"/>
                </a:lnTo>
                <a:close/>
              </a:path>
              <a:path fill="lightenLess" w="32596" h="21600">
                <a:moveTo>
                  <a:pt x="0" y="0"/>
                </a:moveTo>
                <a:lnTo>
                  <a:pt x="32596" y="0"/>
                </a:lnTo>
                <a:lnTo>
                  <a:pt x="31196" y="1400"/>
                </a:lnTo>
                <a:lnTo>
                  <a:pt x="1400" y="1400"/>
                </a:lnTo>
                <a:close/>
              </a:path>
              <a:path fill="darken" w="32596" h="21600">
                <a:moveTo>
                  <a:pt x="32596" y="0"/>
                </a:moveTo>
                <a:lnTo>
                  <a:pt x="32596" y="21600"/>
                </a:lnTo>
                <a:lnTo>
                  <a:pt x="31196" y="20200"/>
                </a:lnTo>
                <a:lnTo>
                  <a:pt x="31196" y="1400"/>
                </a:lnTo>
                <a:close/>
              </a:path>
              <a:path fill="darkenLess" w="32596" h="21600">
                <a:moveTo>
                  <a:pt x="32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6" y="20200"/>
                </a:lnTo>
                <a:close/>
              </a:path>
              <a:path fill="lighten" w="32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6" h="21600">
                <a:moveTo>
                  <a:pt x="9291" y="3794"/>
                </a:moveTo>
                <a:lnTo>
                  <a:pt x="23304" y="10800"/>
                </a:lnTo>
                <a:lnTo>
                  <a:pt x="9291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AutoShape 14"/>
          <p:cNvSpPr/>
          <p:nvPr/>
        </p:nvSpPr>
        <p:spPr>
          <a:xfrm>
            <a:off x="8317080" y="3500280"/>
            <a:ext cx="720720" cy="505080"/>
          </a:xfrm>
          <a:custGeom>
            <a:avLst/>
            <a:gdLst>
              <a:gd name="textAreaLeft" fmla="*/ 32760 w 720720"/>
              <a:gd name="textAreaRight" fmla="*/ 688320 w 72072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30815" h="21600">
                <a:moveTo>
                  <a:pt x="0" y="0"/>
                </a:moveTo>
                <a:lnTo>
                  <a:pt x="30815" y="0"/>
                </a:lnTo>
                <a:lnTo>
                  <a:pt x="30815" y="21600"/>
                </a:lnTo>
                <a:lnTo>
                  <a:pt x="0" y="21600"/>
                </a:lnTo>
                <a:close/>
              </a:path>
              <a:path fill="lightenLess" w="30815" h="21600">
                <a:moveTo>
                  <a:pt x="0" y="0"/>
                </a:moveTo>
                <a:lnTo>
                  <a:pt x="30815" y="0"/>
                </a:lnTo>
                <a:lnTo>
                  <a:pt x="29415" y="1400"/>
                </a:lnTo>
                <a:lnTo>
                  <a:pt x="1400" y="1400"/>
                </a:lnTo>
                <a:close/>
              </a:path>
              <a:path fill="darken" w="30815" h="21600">
                <a:moveTo>
                  <a:pt x="30815" y="0"/>
                </a:moveTo>
                <a:lnTo>
                  <a:pt x="30815" y="21600"/>
                </a:lnTo>
                <a:lnTo>
                  <a:pt x="29415" y="20200"/>
                </a:lnTo>
                <a:lnTo>
                  <a:pt x="29415" y="1400"/>
                </a:lnTo>
                <a:close/>
              </a:path>
              <a:path fill="darkenLess" w="30815" h="21600">
                <a:moveTo>
                  <a:pt x="308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15" y="20200"/>
                </a:lnTo>
                <a:close/>
              </a:path>
              <a:path fill="lighten" w="308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15" h="21600">
                <a:moveTo>
                  <a:pt x="8401" y="3794"/>
                </a:moveTo>
                <a:lnTo>
                  <a:pt x="22414" y="10800"/>
                </a:lnTo>
                <a:lnTo>
                  <a:pt x="8401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5T08:24:03Z</dcterms:created>
  <dc:creator>Ученик</dc:creator>
  <dc:description/>
  <dc:language>en-US</dc:language>
  <cp:lastModifiedBy>Олег</cp:lastModifiedBy>
  <dcterms:modified xsi:type="dcterms:W3CDTF">2015-02-13T17:40:27Z</dcterms:modified>
  <cp:revision>36</cp:revision>
  <dc:subject/>
  <dc:title>Презентация PowerPoint</dc:title>
</cp:coreProperties>
</file>